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4C5-8E96-4D5B-ACE4-5624BD2B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F8D-AA42-4395-929A-D216F0A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A3C-0C29-4BB6-A60D-D2BD1876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B31-09FD-462E-AF39-1F784714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561A-51DC-4B0F-AFE5-036A5EE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9CFB-9EE8-41A8-8F93-86CD202F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15BA-AE95-4A4F-B73F-82B2FC8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A8C-F6A3-456F-95B9-607EA7F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4BFF-B2D7-46C2-9A31-520D6C5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4733-63E0-42DB-8ECF-0AD7CE7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3900-F6D8-4596-B184-A402CD0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96D-530E-4E78-882B-2783844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7AFF-AC78-4906-AF1B-B76E8A1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0019-090D-406C-ADD7-D48E49F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237-7FED-4B3D-A1DF-574E032D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0E9-4CB7-4A58-A641-4BF2BB4B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271-8021-4212-9571-7390EFBE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AF8-84F2-459F-9BA7-A3AF1DE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C60-F560-488A-99F2-167A277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D98-E013-4B72-A4CE-CB8B555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894-6385-4385-ACB0-4B72EEA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00E-685B-4069-A72A-F6E820B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27E-B83F-4274-B4E6-D94323C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B30-D746-4304-8A08-8984A87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CB91-3C4E-43DE-A5A9-2129B0ED5B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F99-65E3-4D9A-B258-55864ED16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29A-15D1-4B84-B0E0-BBE2EDDE5B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F4A5-A59C-4C85-A0E8-B4499B8F3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 med 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g litt om bruken av de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0524-FBCA-40D1-A532-6F637D5263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C926BB-3A1D-4218-AF9D-F8BB621EFAA1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programmer under Windo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n ha skriverproble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viklet i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Dansk programpakke for DOS/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løver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ndowsbasert for 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xcelbaserte programmer for mindre 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BBD-B553-4382-9517-14A397596757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29BA3-2702-44B7-B376-DC79C7715BEA}" type="datetime1">
              <a:rPr lang="en-US"/>
              <a:t>07/30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ar , Laserbar,  Filbar, Blekkb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, slipper, resultatslipper, stensil HTML filer o.s.v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Monrad, Lasermon, Film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nradturner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amme service som i barometerturnering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EE7-D5AD-4E22-AD26-3462317EBC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7CB13-B20C-45F3-BD1C-941B7C0A25E9}" type="datetime1">
              <a:rPr lang="en-US"/>
              <a:t>07/30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r opp lagse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beregnes som kvot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ehersker Monrad med 1 eller flere mø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er summen av motstandernes poeng mot and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utoscore av vinnerpo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08C-CBB6-4439-8E9C-09732B7936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C3DD9-3EB6-432D-A14C-9415B6CB0130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K 2000 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(Bull-Gulbrandsen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rogrampakke bygget i Microsoft Access som tar sikte på å bli en komplett pakk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arometer, Monrad og frie opp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dlemslister fra NB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sterpoe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coring fra grensesnitt pr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Neuberg’s forme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littet sco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Fullført programpakken vil dekke alle behov innen turneringsregnskap og registrering av MP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7AB-2C21-4ADD-A942-717558F404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7F5D4-4875-45BD-954B-2BDA5CA99637}" type="datetime1">
              <a:rPr lang="en-US"/>
              <a:t>07/30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horvald Aagårds programpakk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S-basert og arbeider under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leksibelt ved at operatøren setter opp alle aktuelle beveg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Lag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lle typer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nge aktuelle scoringsmetod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Sven Pran har utviklet et program for oppsett av singelturneringer i programme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enne gratis programpakken brukes til øvingsoppgavene i dette kurs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55B-7997-4FB9-B56C-6EFBCA3259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6FCDA-62A5-4403-9CE7-FB6976A2F6B4}" type="datetime1">
              <a:rPr lang="en-US"/>
              <a:t>07/30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ndowsbasert program for Barometerturneri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asting fra flere mas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ode rutiner for korri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82F-4CDA-4B3E-888D-345EE93DA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26FC5-051F-4188-B82D-FC592140060A}" type="datetime1">
              <a:rPr lang="en-US"/>
              <a:t>07/30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Jan Henriksen (Bridgehuset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xcelprogrammer som skriver på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ag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Tabellopps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som NBF s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5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6 spill pr ru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owell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2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av slipper og plansj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Opptil 15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 og slipper</a:t>
            </a:r>
            <a:br>
              <a:rPr sz="2000"/>
            </a:b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inge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nntil 48 spille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esialutgave med 48-120 spil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7B5-1578-46E4-96E9-11D3086F3E2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E2348-3911-4AFF-A2EB-EE36D1B20774}" type="datetime1">
              <a:rPr lang="en-US"/>
              <a:t>07/30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9-18T20:10:36Z</dcterms:modified>
  <cp:revision>5</cp:revision>
  <dc:subject/>
  <dc:title>Turneringsregnskap</dc:title>
</cp:coreProperties>
</file>