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876508-4B7F-46EE-A64E-369A3DD182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4361B-B01E-4BDC-B616-0C1E097F7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A07FC3-5E7B-43E9-B249-2BA6A57B40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69FAA9-E2CB-44C0-99B0-D74B4B5D26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224B7-A7AD-4391-A062-9AD31FC77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C28C2-0C82-4EEF-8A72-2AB18A49E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12DFD-3127-44DD-B138-CC9A1D36B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F351C-187D-4E8B-A61B-1A704FE66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6BA05-892E-41FC-AB16-8998E084F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24077-4FA8-4B08-B3CE-C4EF72C41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9D1AC-CC0C-48FF-84E6-FE86E037D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B0622-5F8A-4CB6-88D7-DD67ED364F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FDDA0-BA49-4A34-AEF5-69D2AC58B0B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ppellutvalg og turneringsleder</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rondheim 3. – 5. mai 2002</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ppellutvalget</a:t>
            </a:r>
            <a:endParaRPr b="0" lang="en-US" sz="4400" spc="-1" strike="noStrike">
              <a:solidFill>
                <a:srgbClr val="000066"/>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Appellutvalget overtar nå og foretar en selvstendig vurdering av saken. Behandlingen skal ikke være en sandpåstrøing av turneringsleders avgjørelse. Bruk ikke formulering som vi ”omgjør TLs avgjørelse” eller ”vi støtter TL”.</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Antall medlemmer bør være 3.</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Uenighet mellom TL og appellutvalg</a:t>
            </a:r>
            <a:endParaRPr b="0" lang="en-US" sz="4000" spc="-1" strike="noStrike">
              <a:solidFill>
                <a:srgbClr val="000066"/>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Appellutvalget kan være overbevist om at TL har tolket lov/reglement feil. Gi TL anledning til å omgjøre sin beslutning. Nekter TL, er det TLs avgjørelse som blir stående, §93B3. Saken blir nå normalt anket til LU.</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Uenighet mellom TL og appellutvalg</a:t>
            </a:r>
            <a:endParaRPr b="0" lang="en-US" sz="4000" spc="-1" strike="noStrike">
              <a:solidFill>
                <a:srgbClr val="0000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L kan være overbevist om at appellutvalget er på ville veier. Er det en vurderingssak, kan han henstille til utvalget om å endre avgjørelsen, men hvis ikke, er det appellutvalget sin avgjørelse som blir stående. TL kan nå selv sende saken til LU.</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Muntlig høring</a:t>
            </a:r>
            <a:endParaRPr b="0" lang="en-US" sz="4400" spc="-1" strike="noStrike">
              <a:solidFill>
                <a:srgbClr val="0000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TL redegjør først for fakta, hva han har dømt og hvorfor.</a:t>
            </a:r>
            <a:endParaRPr b="0" lang="en-US" sz="3200" spc="-1" strike="noStrike">
              <a:solidFill>
                <a:srgbClr val="990000"/>
              </a:solidFill>
              <a:latin typeface="Times New Roman"/>
            </a:endParaRPr>
          </a:p>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Hver av partene får nå ordet, appellanten først. Appellutvalget stiller oppklarende spørsmål til partene.</a:t>
            </a:r>
            <a:endParaRPr b="0" lang="en-US" sz="3200" spc="-1" strike="noStrike">
              <a:solidFill>
                <a:srgbClr val="990000"/>
              </a:solidFill>
              <a:latin typeface="Times New Roman"/>
            </a:endParaRPr>
          </a:p>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iskusjon mellom partene bør unngåes, men replikker er tillatt når begge parter har forklart seg.</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Muntlig høring</a:t>
            </a:r>
            <a:endParaRPr b="0" lang="en-US" sz="4400" spc="-1" strike="noStrike">
              <a:solidFill>
                <a:srgbClr val="000066"/>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il slutt får partene anledning til oppsummering.</a:t>
            </a:r>
            <a:endParaRPr b="0" lang="en-US" sz="3600" spc="-1" strike="noStrike">
              <a:solidFill>
                <a:srgbClr val="990000"/>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L tar sin avgjørelse i enerom. TL er heller ikke tilstede nå.</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om fastsettes</a:t>
            </a:r>
            <a:endParaRPr b="0" lang="en-US" sz="4400" spc="-1" strike="noStrike">
              <a:solidFill>
                <a:srgbClr val="000066"/>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Appellutvalget kan hele tiden tilkalle TL for å rådføre seg om hva lov og reglement sier om forholdet.</a:t>
            </a:r>
            <a:endParaRPr b="0" lang="en-US" sz="3600" spc="-1" strike="noStrike">
              <a:solidFill>
                <a:srgbClr val="990000"/>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84D-E krever at TL og appellutvalg beskytter den ikke feilende side.</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om fastsettes</a:t>
            </a:r>
            <a:endParaRPr b="0" lang="en-US" sz="4400" spc="-1" strike="noStrike">
              <a:solidFill>
                <a:srgbClr val="000066"/>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Appellutvalget er formelt forpliktet til å følge TLs fortolkning av lov og reglement. Er appellutvalget enig med TLs fortolkning og skjønn, bør den treffe samme avgjørelse. Husk likevel på § 12C3 som gir appellutvalg større myndighet til å gi justert score enn det TL har for å oppnå et mer rettferdig resultat, men merk at TL langt på vei har fått samme rettighet.</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om fastsettes</a:t>
            </a:r>
            <a:endParaRPr b="0" lang="en-US" sz="4400" spc="-1" strike="noStrike">
              <a:solidFill>
                <a:srgbClr val="000066"/>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Appellutvalget kan selvfølgelig komme fram til andre kjensgjerninger og et annet skjønn enn TL. Dette gjelder særlig ved muntlige høringer. Uten muntlig høring, er det normalt, er det normalt TL som fastsetter sakens fakta.</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Ta stilling til om gebyret skal returneres.</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om fastsettes</a:t>
            </a:r>
            <a:endParaRPr b="0" lang="en-US" sz="4400" spc="-1" strike="noStrike">
              <a:solidFill>
                <a:srgbClr val="000066"/>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Appellutvalget må være klar over hver av partene tilstreber å gi til beste det som setter dem selv i best mulig lys, og at det er TL som er den nøytrale instans.</a:t>
            </a:r>
            <a:endParaRPr b="0" lang="en-US" sz="3200" spc="-1" strike="noStrike">
              <a:solidFill>
                <a:srgbClr val="990000"/>
              </a:solidFill>
              <a:latin typeface="Times New Roman"/>
            </a:endParaRPr>
          </a:p>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ommen skal avsier skriftlig, enten ved appellutvalgets leder eller ved TL.</a:t>
            </a:r>
            <a:endParaRPr b="0" lang="en-US" sz="3200" spc="-1" strike="noStrike">
              <a:solidFill>
                <a:srgbClr val="990000"/>
              </a:solidFill>
              <a:latin typeface="Times New Roman"/>
            </a:endParaRPr>
          </a:p>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Partene skal gjøres oppmerksom på at saken kan ankes videre til LU, men ikke anbefal appell.</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Prinsipper for appellutvalgets arbeid</a:t>
            </a:r>
            <a:endParaRPr b="0" lang="en-US" sz="4000" spc="-1" strike="noStrike">
              <a:solidFill>
                <a:srgbClr val="000066"/>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Appellutvalget behandler ikke forbrytelser og skal ikke dømme forbrytere. Slike saker sendes til NBF for pådømming i disiplinærnemda.</a:t>
            </a:r>
            <a:endParaRPr b="0" lang="en-US" sz="3600" spc="-1" strike="noStrike">
              <a:solidFill>
                <a:srgbClr val="990000"/>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Utvalget skal gi en passende erstatning for påført skade og normale krav til bevisføring i en rettsak, gjelder ikke.</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ppellutvalg og turneringsleder</a:t>
            </a:r>
            <a:endParaRPr b="0" lang="en-US" sz="4400" spc="-1" strike="noStrike">
              <a:solidFill>
                <a:srgbClr val="000066"/>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t bør oppnevnes et appellutvalg i alle offisielle turneringer</a:t>
            </a:r>
            <a:endParaRPr b="0" lang="en-US" sz="3200" spc="-1" strike="noStrike">
              <a:solidFill>
                <a:srgbClr val="990000"/>
              </a:solidFill>
              <a:latin typeface="Times New Roman"/>
            </a:endParaRPr>
          </a:p>
          <a:p>
            <a:pPr marL="322200" indent="-32220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I turneringer med MP skal det oppnevnes et appellutvalg</a:t>
            </a:r>
            <a:endParaRPr b="0" lang="en-US" sz="3200" spc="-1" strike="noStrike">
              <a:solidFill>
                <a:srgbClr val="990000"/>
              </a:solidFill>
              <a:latin typeface="Times New Roman"/>
            </a:endParaRPr>
          </a:p>
          <a:p>
            <a:pPr marL="322200" indent="-32220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LU er appellutvalg i SM, NM for klubber og i alle NM-finaler</a:t>
            </a:r>
            <a:endParaRPr b="0" lang="en-US" sz="3200" spc="-1" strike="noStrike">
              <a:solidFill>
                <a:srgbClr val="990000"/>
              </a:solidFill>
              <a:latin typeface="Times New Roman"/>
            </a:endParaRPr>
          </a:p>
          <a:p>
            <a:pPr marL="322200" indent="-32220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Et par eller et lags kaptein kan appellere enhver avgjørelse som TL har tatt ved bordet, se § 92.</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Prinsipper for appellutvalgets arbeid</a:t>
            </a:r>
            <a:endParaRPr b="0" lang="en-US" sz="4000" spc="-1" strike="noStrike">
              <a:solidFill>
                <a:srgbClr val="000066"/>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t er viktig å få fram kjensgjerninger så godt som mulig. ”Jeg hørte spillefører forlange spar 3” er bedre enn ”han sa at han hadde hørt at spillefører hadde forlangt spar 3.”</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Argument som: ”Vi hadde en lignende sak i fjor og da fikk vi medhold.”, faller død til jorden.</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Prinsipper for appellutvalgets arbeid</a:t>
            </a:r>
            <a:endParaRPr b="0" lang="en-US" sz="4000" spc="-1" strike="noStrike">
              <a:solidFill>
                <a:srgbClr val="000066"/>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Vis sunn skepsis når spilleren forteller hva han tenkte på i gitte situasjoner. Tenkingen har ikke blitt dårligere av at spillet er slutt.</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ppellutvalgets plikt</a:t>
            </a:r>
            <a:endParaRPr b="0" lang="en-US" sz="4400" spc="-1" strike="noStrike">
              <a:solidFill>
                <a:srgbClr val="000066"/>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Appellutvalget plikter å komme fram til en agjørelse, uansett hvor vanskelig eller ubehagelig saken er.</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Det er bra om avgjørelsen er enstemmig. Det krever at alle har respekt for andres argumenter, men det er ikke gunstig med skinnuenighet. Da er det bedre med en votering.</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ppellutvalg og turneringsleder</a:t>
            </a:r>
            <a:endParaRPr b="0" lang="en-US" sz="4400" spc="-1" strike="noStrike">
              <a:solidFill>
                <a:srgbClr val="000066"/>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Appellutvalget behandler appellene, se </a:t>
            </a:r>
            <a:endParaRPr b="0" lang="en-US" sz="3600" spc="-1" strike="noStrike">
              <a:solidFill>
                <a:srgbClr val="99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	</a:t>
            </a:r>
            <a:r>
              <a:rPr b="0" lang="en-US" sz="3600" spc="-1" strike="noStrike">
                <a:solidFill>
                  <a:srgbClr val="990000"/>
                </a:solidFill>
                <a:latin typeface="Times New Roman"/>
              </a:rPr>
              <a:t>§ 93.</a:t>
            </a:r>
            <a:endParaRPr b="0" lang="en-US" sz="3600" spc="-1" strike="noStrike">
              <a:solidFill>
                <a:srgbClr val="990000"/>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Retten til å appellere utgår etter 30 min etter at resultatet er publisert, hvis ikke arrangørene har bestemt noe annet.</a:t>
            </a:r>
            <a:endParaRPr b="0" lang="en-US" sz="3600" spc="-1" strike="noStrike">
              <a:solidFill>
                <a:srgbClr val="990000"/>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Alle appeller skal gjøres gjennom TL</a:t>
            </a:r>
            <a:endParaRPr b="0" lang="en-US" sz="3600" spc="-1" strike="noStrike">
              <a:solidFill>
                <a:srgbClr val="99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ppellutvalg og turneringsleder</a:t>
            </a:r>
            <a:endParaRPr b="0" lang="en-US" sz="4400" spc="-1" strike="noStrike">
              <a:solidFill>
                <a:srgbClr val="0000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TL er suveren på lover, reglement og disiplin, men et appellutvalg kan be TL om å omgjøre beslutningen.</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En avgjørelse på lover og reglement som ikke omgjøres, kan appelleres til LU.</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Appellutvalget skal gjøre vurderinger av bridgemessig karakter.</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ppellutvalg og turneringsleder</a:t>
            </a:r>
            <a:endParaRPr b="0" lang="en-US" sz="4400" spc="-1" strike="noStrike">
              <a:solidFill>
                <a:srgbClr val="000066"/>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Utvalget kan fastslå kjensgjerninger ved høring hvis partene ikke er enige i TLs framstilling.</a:t>
            </a:r>
            <a:endParaRPr b="0" lang="en-US" sz="3600" spc="-1" strike="noStrike">
              <a:solidFill>
                <a:srgbClr val="990000"/>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Appellutvalget skal passe på at ingen tjener på eget lovbrudd.</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urneringsleder skal</a:t>
            </a:r>
            <a:endParaRPr b="0" lang="en-US" sz="4400" spc="-1" strike="noStrike">
              <a:solidFill>
                <a:srgbClr val="000066"/>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Være ordstyrer når partene forklarer seg.</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Fastslå kjensgjerninger.</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Foreta bridgemessig skjønn.</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Straffe forseelser etter bridgelovene.</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isse 4 oppgavene overtar appellutvalget når appellen blir fremmet.</a:t>
            </a:r>
            <a:endParaRPr b="0" lang="en-US" sz="3200" spc="-1" strike="noStrike">
              <a:solidFill>
                <a:srgbClr val="99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Krav til medlemmene i et appellutvalg</a:t>
            </a:r>
            <a:endParaRPr b="0" lang="en-US" sz="4000" spc="-1" strike="noStrike">
              <a:solidFill>
                <a:srgbClr val="000066"/>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Utvalget skal foreta bridgemessige vurderinger og i utvalget bør det derfor være en flere spillere som er minst like gode som de involverte.</a:t>
            </a:r>
            <a:endParaRPr b="0" lang="en-US" sz="3200" spc="-1" strike="noStrike">
              <a:solidFill>
                <a:srgbClr val="990000"/>
              </a:solidFill>
              <a:latin typeface="Times New Roman"/>
            </a:endParaRPr>
          </a:p>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Medlemmene bør prøve å sett seg inn i mindre flinke spillere sin tankegang. En spiller har krav på å bli bedømt av sine likemenn, så langt råd er.</a:t>
            </a:r>
            <a:endParaRPr b="0" lang="en-US" sz="3200" spc="-1" strike="noStrike">
              <a:solidFill>
                <a:srgbClr val="990000"/>
              </a:solidFill>
              <a:latin typeface="Times New Roman"/>
            </a:endParaRPr>
          </a:p>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Tilstreb geografisk spredning, hvis mulig.</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Habilitet</a:t>
            </a:r>
            <a:endParaRPr b="0" lang="en-US" sz="4400" spc="-1" strike="noStrike">
              <a:solidFill>
                <a:srgbClr val="000066"/>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Bruk sunn fornuft. Det er ofte tilstrekkelig. Det forventes at inhabile medlemmer selv trekker seg hvis de vet at de er inhabile.</a:t>
            </a:r>
            <a:endParaRPr b="0" lang="en-US" sz="3200" spc="-1" strike="noStrike">
              <a:solidFill>
                <a:srgbClr val="990000"/>
              </a:solidFill>
              <a:latin typeface="Times New Roman"/>
            </a:endParaRPr>
          </a:p>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 som er med i appellutvalget, bør ikke pleie vennskapelig omgang med en av partene umiddelbart før appellbehandling, eller like etter.</a:t>
            </a:r>
            <a:endParaRPr b="0" lang="en-US" sz="3200" spc="-1" strike="noStrike">
              <a:solidFill>
                <a:srgbClr val="990000"/>
              </a:solidFill>
              <a:latin typeface="Times New Roman"/>
            </a:endParaRPr>
          </a:p>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Hvis en av medlemmene betvile habilitet, bør medlemmet byttes ut.</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urneringsleders rolle</a:t>
            </a:r>
            <a:endParaRPr b="0" lang="en-US" sz="4400" spc="-1" strike="noStrike">
              <a:solidFill>
                <a:srgbClr val="000066"/>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Han redegjør for hvilke kjensgjerninger som er fastlagt.</a:t>
            </a:r>
            <a:endParaRPr b="0" lang="en-US" sz="3200" spc="-1" strike="noStrike">
              <a:solidFill>
                <a:srgbClr val="990000"/>
              </a:solidFill>
              <a:latin typeface="Times New Roman"/>
            </a:endParaRPr>
          </a:p>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Hvilke spørsmål som det er tatt stilling til.</a:t>
            </a:r>
            <a:endParaRPr b="0" lang="en-US" sz="3200" spc="-1" strike="noStrike">
              <a:solidFill>
                <a:srgbClr val="990000"/>
              </a:solidFill>
              <a:latin typeface="Times New Roman"/>
            </a:endParaRPr>
          </a:p>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Hvilke lover og regler som dekker saken.</a:t>
            </a:r>
            <a:endParaRPr b="0" lang="en-US" sz="3200" spc="-1" strike="noStrike">
              <a:solidFill>
                <a:srgbClr val="990000"/>
              </a:solidFill>
              <a:latin typeface="Times New Roman"/>
            </a:endParaRPr>
          </a:p>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Og de forskjellige muligheter han har overveiet før avgjørelsen.</a:t>
            </a:r>
            <a:endParaRPr b="0" lang="en-US" sz="3200" spc="-1" strike="noStrike">
              <a:solidFill>
                <a:srgbClr val="990000"/>
              </a:solidFill>
              <a:latin typeface="Times New Roman"/>
            </a:endParaRPr>
          </a:p>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Disse punktene skal være nedskrevet sammen med partenes forklaringer.</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9T21:00:15Z</dcterms:created>
  <dc:creator> Kyrre Tangen</dc:creator>
  <dc:description/>
  <dc:language>en-US</dc:language>
  <cp:lastModifiedBy>Per Nordland</cp:lastModifiedBy>
  <dcterms:modified xsi:type="dcterms:W3CDTF">2002-05-03T14:20:33Z</dcterms:modified>
  <cp:revision>3</cp:revision>
  <dc:subject/>
  <dc:title>Appellutvalg og turneringsleder</dc:title>
</cp:coreProperties>
</file>