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232-C4CD-4222-8C4E-3A3B3D4E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E4A2-296E-4DEA-BE0B-76A6B690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2B5-5573-417B-B7AF-5E35D177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A47-75FE-4F8A-8915-AB9C8B54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1C79-72AD-4B8B-9C7B-4DBB82D4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2D2E-2D78-4752-B32F-8D998A92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9C4E-2FB2-4420-9970-E13A5F7D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4E76-71A1-49FE-80FF-B8BCEA54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E404-102D-4FA5-BC83-CD1C5B7C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09B9-D21D-42DF-87E6-82B05B5E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4155-F85F-4192-8E38-613968EF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36B-CCE8-4370-B032-0C9C5387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A821-CADC-400A-A4F8-0E15E1D0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BEE2-D0D0-462D-96CF-62CC8A82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449C-595E-498F-8D62-DF1D6160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174C-8968-4ABF-8258-E952FD7F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E0AC-F789-45C4-8178-36C46B5B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0B58-8F11-4577-82E5-910F8DDB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F89-64B5-41DE-BC99-925D2578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807-CD52-4BB2-94C5-AED1D2E5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E9F-F2C2-4362-B8DC-7D029B88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C2F-3CDE-47BE-9AD6-C93D1DA2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580-4A43-4EBB-A1AC-8EBA4D9F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B40-B22F-4A04-92E9-011FD1B7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2DFB-267E-4D71-B4F3-99B5566C097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96A0-C801-4E4A-AAE3-DAFAB3909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AEF5-6BEE-4EC6-BF22-5EEE328E30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BD65-3644-4F16-9C4B-A99DDADE7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urs for Turneringsledere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Kretsautorisasjo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øtte til gjennomgang av love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0720-668E-4452-9BAC-1133B22DBE8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6D18D1C-83C0-45E7-AD60-C79E1443804B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raffeutmålingen § 12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12 A 1-3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gen straff i lov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Umulig å spille map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onet feil str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12 B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kke lov til å avvike fra de straffene som er fastsatt i lovene f.eks for 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12 C 1-3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els pluss 60%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els minus &gt;&gt;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kke feilende får normal sannsynlig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ilende side får verste sannsynlige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Det er lov også for TL å ”veie” en sc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650-29B7-41FF-8F4B-56A09B7CE58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0533A-3F26-48DE-A5E2-B65CE4218137}" type="datetime1">
              <a:rPr lang="en-US"/>
              <a:t>07/30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Urettmessig informasjon § 16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 informasjon som ikke kommer fra normalt spill eller meld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uk av urettmessig informasjon fra makker er forbu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uk av informasjon som påtvinges fra andre kilder er forbudt, men erstatning 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sjon fra meldinger og spill som er trukket tilbake er ulovlig for en feilende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Når det finnes mye ulovlig informasjon så er det ofte umulig å fortsette et normalt spill. For eksempel når begge par har gjort feil som har ført til tilbaketrukne melding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C16-8A53-4FCD-91E7-E0AE3A342040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1DCFC-2D19-4AA8-A78C-32D53846F8D2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1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år meldingsforløpet slut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ørg for at meldekortene ligger på bordet til meldingsforløpet er slutt etter l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20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år er det tillatt å be om forkla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21Om melding basert på ukorrekt opplys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§21B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ør åpningsutspillet er snudd kan den av motstanderne som passet sist endre sin melding når spillefører eller blindemann retter en ufullstendig eller feil forkla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ten som svar på spørsmål eller etter plikten i §75D2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309-4714-430D-885F-431F52B03D0E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37F19-EE27-46FD-8F90-CF07D776D26C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2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23 skade ved tvungen pas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te er IKKE et sikkerhetsnet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 ! bare når ”den feilende spiller kunne vite at den tvungne pass sannsynligvis ville ska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24 om fremvist kor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vens bokstav betyr her at spillere som ser på hverandres kort før åpningsutspillet er snud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å legge alle kort synlig på bord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å passe resten av meldingsforløpet dersom en feil forklaring fører til flere melding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D81-7702-4976-9379-7A283AFE82B9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61528-7DB2-4062-A108-07863ED84811}" type="datetime1">
              <a:rPr lang="en-US"/>
              <a:t>07/30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3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25 B 2 er vanskeli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leringen ”DEN SIST AVGITTE MELDING BLIR IKKE AKSEPTERT” betyr at spilleren allerede har byttet ut meldingen sin når denne paragrafen skal  bru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ke tilby spillerne å bruke 25B2b2 når du ikke m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§26 er en viktig støtte i svært mange andre paragrafe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§26A: Bestemt farge eller farger f.eks spar eller kløver og ruter gir rom for krav og forbud i disse far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§26B: Andre meldinger f.eks pass, dobler, NT, viser spar og minor o.s.v gir rom for å nekte en hvilken som helst farge i utsp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3AF-A4EC-49F7-9376-B43188930FC2}" type="slidenum">
              <a:t>1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0FD61-EC0E-4240-B447-9CDAA295A867}" type="datetime1">
              <a:rPr lang="en-US"/>
              <a:t>07/30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4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27 Utilstrekkelig bu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 må ALLTID få sjansen til å godta mel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e mellom naturlige og konvensjonelle b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kke tillatt å rette til Dobling eller Redob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§28 Om rekkefølgen av meld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elding av spiller i tur annulerer melding utenfor  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Dette er greit dersom det har skjedd ved bordet, men det er ikke et tilbud etter at TL har kommet til bord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419-3523-4AB4-A093-594FA0CFE9A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1F38C-847D-4D87-8EEA-BF0682620B58}" type="datetime1">
              <a:rPr lang="en-US"/>
              <a:t>07/30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5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§ 29 A gir VM rett til å godkjenne alle (lovlige) meldinger utenfor tur. Dersom han godkjenner en melding som er ulovlig etter §35-39 så annuleres den ulovlige meldingen og alle etterfølgende meldinger uten straff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§ 29 C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erk at konvensjonelle meldinger utenfor tur som viser en bestemt farge eller bestemte farger så gjelder reglene i § 30-32 disse fargene og ikke benevnel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F.eks spar og en minor er ikke bestemte far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9D50-9183-454B-B90C-F0B621FF7AD8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7B88E-B1A4-4540-B8F4-413633EC148A}" type="datetime1">
              <a:rPr lang="en-US"/>
              <a:t>07/30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6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30-32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knisk kompliserte paragrafer som skal dekke nesten alle tenkelige varianter  og med nøyaktig beskrivelse av hva som skjer etterpå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usk referansene til §26 og §23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§ 16 C nevnes sjelden, men all informasjon fra tilbaketrukne meldinger er ALLTID urettmessig informasjon for den feilende sid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 33 (og§58) viser at når ting skjer samtidig så skjer de etter hverandre i slik at spiller i tur handler førs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34 fastslår at melding utenfor tur ikke fratar noen spiller  muligheten til å meld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7CF-B1B3-4495-95E7-CC801D0A8EC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687F0-7FB4-4F0D-8ED9-33BC4E21ACBE}" type="datetime1">
              <a:rPr lang="en-US"/>
              <a:t>07/30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7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40 er en sentral paragraf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ten til å melde og spille som en 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julte makkeravtaler er forbu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emmelser om konvensj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Det er mye tilleggslitteratur om dette med psykiske bud tillate systemer og konvensjoner m.m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Vær alltid oppmerksom i grenselandet mellom skjulte makkeravtaler og psykiske b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Vær svært skeptisk til psykiske bud som reellt sett er bruk av forbudte konvensjo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B02-B125-468A-9C69-CF8264BFE894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68436-23CF-4B36-9891-5F9155483652}" type="datetime1">
              <a:rPr lang="en-US"/>
              <a:t>07/30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ystemkor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BF har påbudt bruken av systemkor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 enkelte arrangør kan komme med påbud som også kan si at et bestemt system gjelder, eller at manglende systemkort fører til at et forhåndsutfylt kort deles 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vvik fra system når det ikke finnes systemkort eller annen dokumentasj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 skal tendere til å dømme feil forklaring og eventuelt ulovlig konvensjon når systemet ikke kan dokume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3CF-10C5-4D2F-B5C7-AA3FF4A32782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1C4D0-FA73-45B7-91FD-AF770A4E6DE5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ål for kurse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Kretsautorisasjon som turneringsled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ne arrangere lokale turneri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vkunnskap og dømm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gnska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ruke manuelle metoder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ruke dataverktøy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ganisering av 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sentasjon av resulta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593-07ED-4F18-A8B5-124C2143D3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58338-4ACF-4458-8BAF-3353556653CF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kjulte makkeravtal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Når systemet er slik at en del hender er ”umulige” å melde, blir nødløsningen lett en skjult makkeravta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Åpning 1 NT med singelton, 1 Hp for lite eller 1 HP for m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var 1 </a:t>
            </a:r>
            <a:r>
              <a:rPr b="0" lang="nb-NO" sz="20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med 3 k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Melding 2/3 </a:t>
            </a:r>
            <a:r>
              <a:rPr b="0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som krav eller holdvisende uten lengde os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år du tar en sjans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ker 1 kl HM:D du har 3343 og  0 hp og melder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k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vtalen: Pass viser minst 5 kløv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kjult avtale:Pass viser en fryktelig dårlig hånd jeg håper at VM løfter oss av kroken  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273-7A91-4638-9134-9A0A9167B772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6970E-DB0C-493F-BD08-58E6F74A5D1B}" type="datetime1">
              <a:rPr lang="en-US"/>
              <a:t>07/30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Ingen makkeravtaler ?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rsom det ikke er noen makkeravtale eller makker har glemt avtalen så skal melderens makker svare det. Og bare det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ar på spørsmål om hva han tror det er hjelper ikke motstanderne og gir urettmessig informasjon til meld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dingen som er avgitt vil senere enten være makkeravtalen, eller det må avtales noe annet for denne situasj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år melderens makker har glemt avtalen, kan TL ta ham bort fra bordet og la melderen forkla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avtalen er glemt er også urettmessig informasj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glende systemkort vil ofte bety at meldingen defineres som syste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ke vær streng med slikt i sommerturneringer eller singel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DCE-53B4-41CB-A327-58ECC4198B2E}" type="slidenum">
              <a:t>2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27918-CE3B-4394-BB52-F9552762B84A}" type="datetime1">
              <a:rPr lang="en-US"/>
              <a:t>07/30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pillet: Fremgangsmåt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41 krever fordekt åpningsutspill NB husk §17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dingsforløpet er gjentatt ved at meldekortene ligger på bor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 kan spørre om betydningen av meld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pillefører og blindemann skal korrigere manglende alerter og feil forklaringer fra makkers side (§75D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otspillerne skal ikke røpe at makker har unnlatt å alertere eller har forklart feil (75D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8F8-7EF1-47B0-A116-06CB83DEE23A}" type="slidenum">
              <a:t>2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F891B-5061-4226-BAA0-14D59075892C}" type="datetime1">
              <a:rPr lang="en-US"/>
              <a:t>07/30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lindemann sine rett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t er viktig å vite om blindemann har sine rettigheter i behol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lindemann kan idømmes straff etter §90 for brudd på §41 A og B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 45 C Tvungent spill av kort fra en hån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se reglene skal håndheves ganske stren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ær oppmerksom når du skal bruke §45 D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ll av vanvare kan være nesten hva som he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BE1-4632-47A7-B8B3-5920C8313E20}" type="slidenum">
              <a:t>2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43EC9-8E62-42C4-B7F1-35B1126C2D79}" type="datetime1">
              <a:rPr lang="en-US"/>
              <a:t>07/30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raffekor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re motspillere kan få straffekor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t som er vist under meldingsforløpet kan bli straffekort dersom spillefører vil 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t som er vist under spillet er alltid straffekort (unntatt når TL straks bruker §72B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ter hva som er et lite straffekort og et stort straffekor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år en spiller har flere straffekort som lovlig kan spilles, kan spillefører velge hvilket straffekort som skal sp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378-C2DB-4FBD-9601-FEC99F01550E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3493D-43B9-47C6-896F-370583009DCF}" type="datetime1">
              <a:rPr lang="en-US"/>
              <a:t>07/30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EAC-BC86-4107-AAB9-3C62376F5B5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5EF21-2E88-4143-B3D2-AA30A44C1949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dskapene i ledelse av Bridge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edtatte regl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sjonale lover 1997 utg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F sitt reg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F tillatte meldesyst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F regler for bruk av alert og sto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tøtteregler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inutes” fra W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ommentary on 1987 Laws (Endicott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nbefalinger fra W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urneringsoppsett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ävlingsled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Dataregnskap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3ED-6E59-4E20-BFAD-D498B9CCF81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D2BC6-6142-4F0D-9522-2EDB60C51250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Lovbok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finisjon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beredels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beredelser og gjennomfø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regelmessighe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ldingen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pill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Fremgangsmå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raff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ikk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Krav og avstå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Etiske regl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098-7678-43C2-8D21-D3F2EBA47483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F8C15-9E94-469D-9442-EC5B5441E3A3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Lovboka II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gnskap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rrangering av turner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urneringsleder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varsområ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gjør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rigering av uregelmessig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ffebestemm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ppell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Utfyllende bestemmels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tedfortredere i par eller singel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tedfortredere i lag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ttigheter med hensyn til plassering i lag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ppendix om bruk av skjerm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6C5-A885-4791-BB3B-A16F20FB8BB9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69C80-83B5-43E0-9A23-597304E5C023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Definisjon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 gjennom plansjene fra lovboka og vær nøye med definisjone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k f.eks forskjellen mell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U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LD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g merke til definisjon av konvensjonell me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6D6-70C0-43E1-8E03-0CF3F0A105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D56B0-585A-4B2C-B76B-18715059411D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apitel II og III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Forberedelser og gjennomfør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ildeling av p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Giv og omg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Kontroll av mapper og k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Avvikling av r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3BE-7A8F-4717-8E02-07C3BC7D29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CB878-EA65-4E07-8A43-2806C2A32314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Uregelmess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vordan og når uregelmessigheter påtale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tten til å tildele straff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tten til å anvende skjøn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korrekt antall kor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pill av feil mapp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rettmessig informasjo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E1D-102B-4A21-B3A3-5B5BCBB729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35FFF-AFB7-4CE1-8D01-1E8E38A96C88}" type="datetime1">
              <a:rPr lang="en-US"/>
              <a:t>07/30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tten til å straffe §11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L er alene om å kunne tildele straff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L skal forklare alle valgmulighe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år en spiller skal velg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en konsultasjon mellom makkere ved valg mellom alternat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tten til straff kan tap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d å spille eller me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år en tilskuer ”som er din venn” sier i fra om uregelmessigheten    (se også § 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05F-AC26-4509-A45E-687602517C14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68F65-E2C2-4D28-91F3-C26EA9052CB6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7:30:15Z</dcterms:created>
  <dc:creator>Per Nordland</dc:creator>
  <dc:description/>
  <dc:language>en-US</dc:language>
  <cp:lastModifiedBy>Per Nordland</cp:lastModifiedBy>
  <dcterms:modified xsi:type="dcterms:W3CDTF">2002-04-17T23:10:54Z</dcterms:modified>
  <cp:revision>5</cp:revision>
  <dc:subject/>
  <dc:title>Kurs for Turneringsledere</dc:title>
</cp:coreProperties>
</file>