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3B1-6E47-4134-AAD7-DA03606B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CD9-6833-4D11-8F5B-DC678342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582-6F70-432D-93CB-CD6DC874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C5C-393C-47C8-AEB3-1DF272E6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905-042F-4CE1-AD7E-C404831A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668-EDA5-41F1-9374-55F4EC8D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59D-2820-49A4-A83A-662CE8F9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3EB-9A60-4CFA-8C97-A2748840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55B-D6AE-46B1-AD74-7754DA85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7B1-EAC8-4416-8FC1-B4748888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528-EBFB-43B6-9BB1-558FE1F6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3C9-F4BD-40E0-A339-F192BDA0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B1E6-8504-4103-A93A-7B0E9048D35C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43F6-C9F2-4818-964D-61F1499859DC}" type="slidenum"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LU veileder om forklaring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573-96CD-45DD-93F4-893F697442A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6A36A-FB80-4088-90F4-FC17E4A12E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Korreksjon av forklaring</a:t>
            </a:r>
            <a:r>
              <a:rPr b="1" lang="nb-NO" sz="4400" spc="-1" strike="noStrike">
                <a:solidFill>
                  <a:srgbClr val="000066"/>
                </a:solidFill>
                <a:latin typeface="Times New Roman"/>
              </a:rPr>
              <a:t>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En spiller som hører sin makker gi en forklaring som avviker fra egen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forståelse av makkeravtalen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,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er pålagt å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korrigere forklaringen. 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(i rett tid)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Korreksjon kan unnlates bare når spilleren blir oppmerksom på at han selv etter avtalen har meldt feil og han kan godtgjøre dette på stede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Når makkeravtalen ikke kan dokumenteres så er regelen at melderens forståelse av avtalen er den rette og at forklaringen er fei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9B7-0A20-446A-8B75-89104F574D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10CBA-C415-4815-B3FE-02841DBFA4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Rett til forklaring</a:t>
            </a:r>
            <a:r>
              <a:rPr b="1" lang="nb-NO" sz="4400" spc="-1" strike="noStrike">
                <a:solidFill>
                  <a:srgbClr val="000066"/>
                </a:solidFill>
                <a:latin typeface="Times New Roman"/>
              </a:rPr>
              <a:t>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990000"/>
                </a:solidFill>
                <a:latin typeface="Arial"/>
                <a:ea typeface="Arial"/>
              </a:rPr>
              <a:t>§ 75 </a:t>
            </a:r>
            <a:r>
              <a:rPr b="1" lang="en-GB" sz="2800" spc="-1" strike="noStrike">
                <a:solidFill>
                  <a:srgbClr val="990000"/>
                </a:solidFill>
                <a:latin typeface="Arial"/>
                <a:ea typeface="Arial"/>
              </a:rPr>
              <a:t>A SPESIELLE MAKKERAVTALER</a:t>
            </a:r>
            <a:br>
              <a:rPr sz="3200"/>
            </a:br>
            <a:r>
              <a:rPr b="0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Spesielle makkeravtaler må være fullstendig og ubetinget tilgjengelige for motstanderne (se </a:t>
            </a:r>
            <a:r>
              <a:rPr b="0" lang="nb-NO" sz="3200" spc="-1" strike="noStrike">
                <a:solidFill>
                  <a:srgbClr val="990000"/>
                </a:solidFill>
                <a:latin typeface="Arial"/>
                <a:ea typeface="Arial"/>
              </a:rPr>
              <a:t>§ 40</a:t>
            </a:r>
            <a:r>
              <a:rPr b="0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),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uansett om de er klart avtal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eller underforstått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Den informasjon som formidles til makker gjennom slike avtaler må kun formidles gjennom meldinger, spill og betingelsene for den aktuelle giv.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012-B85C-47B1-A85F-B637D15592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7B65D-8FF4-4458-BFF5-287B099864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Rett til forklaring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En spiller har rett til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Å se på motpartens systemkor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Å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be om å få forklart meldinger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når det er hans tur til å melde eller spille.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(§20, 40)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Spørsmålet bør holdes i en nøytral form som ikke formidler urettmessig informasjon til makker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Det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er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uetisk å spørre for å henlede makkers oppmerksomhet på noe en selv vet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tte kan straffes som urettmessig informasjon</a:t>
            </a: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 fra makker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153-83A7-4B1D-8011-D5EBE55102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6BEBB-DB56-4310-BB0F-C8816B30B0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va skal forklares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En forklaring skal innholde opplysning om hva meldinger betyr etter parets makkeravtale.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n makkeravtale omfatter ikke bare eksplisitt avtalte situasjoner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men også felles forståelse opparbeidet gjennom makkerskap eller tilhold i samme miljø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ersom det ikke er noen makkeravtale, har motparten bare krav på informasjon om dett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Vel etablerte par bør være varsom</a:t>
            </a: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me</a:t>
            </a: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 med å påberope seg ikke-avtale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Dersom en spiller forsøker å forklare en melding når det ikke er noen avtale,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så er det lett å komme i skade for å gi feil forklaring til motparten og samtidig urettmessig informasjon til makk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5F5-1AEB-4D75-A535-90EC2AB85F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44902-B039-41FA-B58F-4CB672FB1A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vordan forklar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En forklaring bør fokusere på hva makkers melding viser at han </a:t>
            </a:r>
            <a:r>
              <a:rPr b="1" i="1" lang="en-GB" sz="2400" spc="-1" strike="noStrike">
                <a:solidFill>
                  <a:srgbClr val="990000"/>
                </a:solidFill>
                <a:latin typeface="Times New Roman"/>
              </a:rPr>
              <a:t>har</a:t>
            </a:r>
            <a:r>
              <a:rPr b="0" i="1" lang="en-GB" sz="2400" spc="-1" strike="noStrike">
                <a:solidFill>
                  <a:srgbClr val="990000"/>
                </a:solidFill>
                <a:latin typeface="Times New Roman"/>
              </a:rPr>
              <a:t>. </a:t>
            </a: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Til dette er det  mest hensiktsmessig å bruk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tall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for fargelengder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honnørpoeng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spillestikk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taper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ller andre størrelser som inngår i systemdefinisjonen, avtalen eller deres felles forståels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et er lite opplysende å bruke ord som</a:t>
            </a:r>
            <a:r>
              <a:rPr b="0" i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har åpning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sperrebeton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 eller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 spillemelding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Det er også viktig at forklaringen i form viser respekt for at motparten kanskje har en annen sjargong eller kommer fra et bridgemiljø med et annet tankesett.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6BD-135F-4045-9098-73BB933291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26805-2A77-4C4E-B70F-04D87421F8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OM HUK konvensjon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eldingene skal være mest mulig veldefinerte, F.eks 1♥ - D - 1♠ alert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eldingen sier ingenting om sparfargen, og meldingen er krav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Forsvarsforslaget skal være på vedlegget til systemkortet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tspillerne kan studere forsvaret under hele meldingsforløpet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et er ikke nok å si hvilken gruppe HUK meldingen tilhører)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5C6-D1C1-4F45-8998-10FF121126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22B63-5435-4666-AF9C-10ECBA8253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Når en  ikke kan svare på spørsmå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l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§20 F1 sier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”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svar på spørsmål om makkeravtaler bør normalt gis av makkeren til den spilleren som har avgitt den aktuelle meldingen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”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vis denne spilleren har glemt avtalen så kan TL ta spilleren bort fra bordet og la den som har avgitt meldingen forklare makkeravtalen.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(Han har i så fall ingen plikt til å avsløre en bløff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Merk at selv opplysningen om glemt avtale kan bli dømt som </a:t>
            </a: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UI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C50-5B96-4CD0-830D-8CD510D171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C1055-4C95-4FF7-840F-850B0ADB90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Når en  ikke kan svare på spørsmå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l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990000"/>
                </a:solidFill>
                <a:latin typeface="Times New Roman"/>
              </a:rPr>
              <a:t>Når det ikke er noen makkeravtal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Det er klare krav til ikke-avta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990000"/>
                </a:solidFill>
                <a:latin typeface="Times New Roman"/>
              </a:rPr>
              <a:t>Makkerpar med 2-300 spill bak seg har ”avtaler” om det aller mest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Motstanderne har bare krav på opplysning om ikke-avta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Det er alltid UI til makker å si hva en tror det 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Motparten har ikke rett til å vite hvilken tolkning som er grunnlaget for svarerens senere meldinger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D34-4263-41B1-B2CE-26E2F7CCA5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9075C-EA4C-40D6-9BEE-61BCDBE42F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Korreksjon av forklaring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990000"/>
                </a:solidFill>
                <a:latin typeface="Times New Roman"/>
              </a:rPr>
              <a:t>Spillerne har plikt til å korrigere makkers feil forklar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66"/>
                </a:solidFill>
                <a:latin typeface="Times New Roman"/>
              </a:rPr>
              <a:t>Spillefører og blindemann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Etter avsluttende pass og før åpningsutspillet blir snud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66"/>
                </a:solidFill>
                <a:latin typeface="Times New Roman"/>
              </a:rPr>
              <a:t>Motspill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Etter at spillet er slut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E04-E23B-43B9-B518-3FC5C258D8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8DC15-18B1-4561-B288-B99A4D458A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4:54:29Z</dcterms:created>
  <dc:creator>Per Nordland</dc:creator>
  <dc:description/>
  <dc:language>en-US</dc:language>
  <cp:lastModifiedBy>Per Nordland</cp:lastModifiedBy>
  <dcterms:modified xsi:type="dcterms:W3CDTF">2002-05-17T19:40:10Z</dcterms:modified>
  <cp:revision>5</cp:revision>
  <dc:subject/>
  <dc:title>LU veileder om forklaringer</dc:title>
</cp:coreProperties>
</file>