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F84-42E1-4E0D-BB5E-72EF1B94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CC5-CEA4-4BC4-B93C-465501F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991-5AC2-4D9B-B69B-F45788E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12-7DAE-4469-8DFD-90247788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F57-FAC3-4004-9A29-0AA02600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10D6-213D-421C-BAEC-96F139E1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7752-93BF-449B-B4C5-D3FD2360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75DF-C3A7-4B2A-A44E-1D454ADB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B76-4CAD-41C3-A7D5-0CF0EB79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4D20-1D89-4A7D-81F7-85F883E8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9C45-1E8F-4233-B09A-299B070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767-6398-4FC7-9B92-BE178DCF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B093-5B9B-4574-AFB9-5ACA8BB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A68-3C83-421C-9DD2-1FDEB34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D3DF-BCC3-4A3F-8980-F4C38CB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11F4-7A93-4267-B439-858E1938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0D56-9330-4749-BCA4-9A115E91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151-ED26-4CB5-9BE6-28B7C33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0B0-5944-41F6-A788-21CC820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728-CF10-495C-B0D9-93B25474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FEF-9A8F-4F6D-8D50-6338BD5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A09-FF22-43C4-A6F9-6B77B759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671-01BA-4CF7-A4FC-00C03BB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305-A615-4CA4-A399-953DDC8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D3D4-771C-40D7-B4E6-00296011B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8C56-7998-4453-B56B-F78E72176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et i Bridg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coring av spil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mmenligning av scor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og utregning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coring av spillet ved bordet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te er detaljert satt opp i § 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Utregningsmetoder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aljene finnes i § 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Reglene om minst 60 %  og bruken av Neubergs formel er hjemlet i denne paragraf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e også plansjeserien turneringsfor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tregn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øren bestemmer  hvilken utregningsmetode som skal bruk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rsom IMP eller MP brukes så gjelder reglene for bruken av dem i § 78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Neuberg’s formel er kun tilgjengelig i BK200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Justeringer må gjøres manuelt i andre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anuell sco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es om d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lederboka Bjarne Mathi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lemen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nskap av Per Nord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atch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2 poeng for alle svaker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alle lik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justerte scorer på andre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ummer resultatet for et lag - se i tabell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ummen av IMP gir grunnlaget for beregning av V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Øvingsoppg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 SlipperR 1-4 fra Kilder\Nordland\Regnsk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med datamaski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Resultatene tastes inn i maskin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 på inntastingsbil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till inn beregningen slik du vil ha 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ruk kontrakt og stikk og evt. kontroll med score for å redusere feilpros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erieturneringer Butlerscore scores pr b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Howell og Mitchell turneringer scores pr spil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er scores pr kam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11:16:54Z</dcterms:created>
  <dc:creator>Per Nordland</dc:creator>
  <dc:description/>
  <dc:language>en-US</dc:language>
  <cp:lastModifiedBy>Per Nordland</cp:lastModifiedBy>
  <dcterms:modified xsi:type="dcterms:W3CDTF">2001-09-29T14:42:12Z</dcterms:modified>
  <cp:revision>1</cp:revision>
  <dc:subject/>
  <dc:title>Regnskapet i Bridge</dc:title>
</cp:coreProperties>
</file>