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663-E887-4C51-A370-08C708C2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2B8-E3BD-432D-9047-B81AB5C9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2F4-8F7A-465A-ABD6-07BB6BF9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655-28FE-4903-ADA8-8FF0D793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BDA-1A1D-42B6-B1D8-7D9F966E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136-9144-455C-8A21-B560FAB6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D75-460E-4B09-9261-6E63A2AD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99D-A145-4D38-80F0-6A264F5D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2B5-1834-4FF0-99A0-36C302EB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DE1-254F-4080-9E52-3C4360A0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42D-6896-4E0C-8AA4-8AF556B2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C41-90C0-452B-8EA1-05EF5ABF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3676-3FF5-424B-8BA2-A9018D3334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06CC-007F-4EDF-84B0-794DDACB4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gler for aler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107-B62D-4409-92E3-8BC7FF260E5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E5D05-6A06-45F2-BD33-4986B55031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Generelt alerteringsprinsipp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ensikten med å alertere er å vekke motparten slik at de er oppmerksomme på at det avgitte budet inneholder informasjon utover det en kan vente av en ekte melding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Det er viktig å merke seg at det i forskjellige miljøer kan være ulike forventninger til betydningen av melding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har derfor vist seg utilfredstillende å basere alertering på "ikke vanlig/vanlig".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Reglene fra nå av vil i hovedsak i stedet bli basert på "konvensjonell/ekte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CBB-5B09-476A-B20B-932547C533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2CF1D-C3F8-4311-BBE1-647F87F3C9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va skal alerte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Hovedregelen er at alle konvensjonelle meldinger skal alerter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makkeravtalen inneholder vesentlige tilleggsbetydningre ut over hva som følger av den er ekte, skal alerter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betydningen er betydelig påvirket av andre avtaler, slik at motstanderne ikke uten videre kan trekke de rette slutninger av meldingsforløp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det kan være rimelig tvil om kravnivå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Åpning sterk 2 kl og Svar på 1-2 NT Stayman 2 kl/3kl skal etter disse regler alerteres,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Pass, Dobler og Redobler skal alerteres, når de ikke er ekt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TL må være svært varsom med å gi erstatning for manglende alert av meldinger som beskrives på forsiden av systemkortet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EFD-65BD-4332-9E58-E1168CA196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7F8CE-6800-40D5-B2E3-99A2A4AA79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va skal ikke alerte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kte meldinger uten betydelig tilleggsinformasjon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Meldinger over 3 N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66"/>
                </a:solidFill>
                <a:latin typeface="Times New Roman"/>
              </a:rPr>
              <a:t>Unntak: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konvensjonelle åpninger / innmeldinger i første melderunde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Det alerteres "helt frem" når det spilles med skjermer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vordan  skal det alerteres?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Banke i borde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Vise alertkortet (evt. legge det over meldekorten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Det er den som alerterer som har ansvaret for at alerten oppfatt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14C-18AA-4EA7-846D-E7B73E254C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E1BE2-A02E-49D1-9955-B78E7E2A7B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ksempler på meldinger som skal alerteres 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i="1" lang="nb-NO" sz="2000" spc="-1" strike="noStrike">
                <a:solidFill>
                  <a:srgbClr val="990000"/>
                </a:solidFill>
                <a:latin typeface="Times New Roman"/>
              </a:rPr>
              <a:t>Listen nedenfor er illustrerende eksempler til alertreglene, ikke en liste som tilstreber fullstendighet. Følgende skal alerteres: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Åpninger på 1 i farge som kan være på færre enn 3 kort i minor eller 4 kort i major, for eksempel 1 kløver Vienna,  Presisjon eller Beredskaps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1 ruter i Presisjons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To kløver som konvensjonelt svar på 1NT åpning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Flerfargemeldinger som Marmic og lignend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To kløveråpning som ikke er ekte, eller som viser tilleggsinfo om andre farger enn 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Ny farge som konvensjonelt kan være på færre enn 4 kort</a:t>
            </a:r>
            <a:br>
              <a:rPr sz="2000"/>
            </a:b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(NB mulig 3 kort i minor alerteres ikke, men skal anmerkes på forsiden av systemkortet)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Ny farge som ikke er krav etter motpartens innmelding.1 over 1, 2 over 1 og hoppmeldinger i ny farge som ikke er krav i et uforstyrret meldingsforløp</a:t>
            </a:r>
            <a:r>
              <a:rPr b="0" i="1" lang="nb-NO" sz="1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8F2-BC23-483D-BA73-B87843D4C7D7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D301F-8EB5-4731-884E-88BBED8B53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ksempler på meldinger som skal alerteres I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1NT åpning som kan være svakere enn en gjennomsnittshånd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Omvendte minorhøyning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Hopp i makkers innmeldte farge som er sper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Alle meldinger etter motstandernes opplysende dobling som er krav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Grandåpninger som ikke viser en balansert eller semibalansert hånd eller som garanterer lengde i minst en bestemt farg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Alle åpninger som viser eller kan vise minst 4 kort i mer enn en farge. Eks :2kl i Presisj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Alert for sikkerhets skyl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En melding som en ikke er sikker på om er ekte eller konvensjonell bør alerteres for sikkerhets skyl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enne usikkerheten er UI  for den som har avgitt melding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425-7EB3-413B-8DA0-912331EC11D5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06635-19C9-4FD0-A8B2-68F3696AC2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lert og straffebestemmels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Manglende alert og alert i utide er feil forklaring overfor motparten og UI for makke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rsom motparten blir skadelidende på grunn av feil forklaring eller bruk av UI fastsettes en justert scor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t er ikke prosedyrestraff for manglende alert eller alert i utid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C1D-FDE8-4A28-9DC8-77255EC6E8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AC7E8-9A58-4718-B7D0-AA2E085C0F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3:08:40Z</dcterms:created>
  <dc:creator>Per Nordland</dc:creator>
  <dc:description/>
  <dc:language>en-US</dc:language>
  <cp:lastModifiedBy>Per Nordland</cp:lastModifiedBy>
  <dcterms:modified xsi:type="dcterms:W3CDTF">2002-06-01T20:36:20Z</dcterms:modified>
  <cp:revision>9</cp:revision>
  <dc:subject/>
  <dc:title>Regler for alert</dc:title>
</cp:coreProperties>
</file>