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07E-9CBB-48C4-A889-885C38AB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F67-804C-46EE-A9B0-43A7213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95F-047C-4A0A-9A4B-D32E89A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EDC-867A-42E9-9230-946EDCF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54B-F362-492B-B6BA-4CC2AE9B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71B-8C76-43BA-A764-1FC4F7F0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7454-6A6C-4797-9BE2-6C1A65A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697-F389-41D2-853B-0D2B6BF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A1F5-BB22-4C72-B491-224F9074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DDB-780E-4DBF-99FB-E9BDF5DF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58D1-ADF2-4232-8300-618E3278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EA7-362F-42B6-8683-784D3DB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001-6916-446C-8537-E6DA018C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92B7-BFC3-494B-B02E-45262C0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B386-1683-4FDB-8EF3-400AC15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2C9B-B3FE-44E0-B12B-7E3A156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2AE-CF5A-4B5F-A8D5-D797B312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373-E4B4-48E4-89E7-B98B2B1D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F7B-A51B-475C-89D4-7835F65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999-18A3-4378-846C-FA8AC2E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E04-B9C2-4E15-B46B-253EB853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409-71B8-4D1B-8B94-BD00539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8E5-9163-4C76-A060-E9EF5CC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1D0-ABB1-4884-86E2-BC39F4D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9F31-F5E4-4794-9FE7-B5B45DB6A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9535-8EE9-4D7D-91CA-EB4728E38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BF - 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Windowsbasert parturnerings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utregningsmåt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ontakt med NBF medlemsreg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av 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nytter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ager HTML fi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idgehuset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 programserie i Excel 95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en er basert på behovene i en klu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ll og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rdplansjer og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til 16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beller, oppsett, lister for forskjellige spillant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 datasyste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figurere utstyr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kre at printer, program og maskin virker sam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r bruksanvis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normalbru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inn navn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krive ut plansjer og lis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age slipp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ut resulta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rettingsrutin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jenne noen som kan hjelpe i en vanskelig situasj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brukeren blir ”ekspe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kkerhetskop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rberedelser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nav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giv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ge plans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sli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jennomfø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scoring når første bord er ferd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og dele ut resultater etter hver ru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rrigere f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ffentliggjøre sluttresultat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an bare brukes ved et bord der ikke er et par som sit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t svansebord gir 2 ekstra sitte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ansebordet og det andre deler spill i Howel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796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386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096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286000"/>
            <a:ext cx="10666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4520" y="1942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816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2551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376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31880" y="252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1143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648320"/>
            <a:ext cx="12189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9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9720" y="563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024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55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13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696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9360" y="44956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4480" y="563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3800" y="380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e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eturneringer der alle spiller samme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ringene i oppsettet angår bare de to bord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Br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bord     +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sittepar  +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ye slipper og bordkort for 2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ridgehus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to bordene bytter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lytteanvisningen endres slik at de som skal til en plass der et par sitter fast går til tilsvarende plass på svansebordet, og deretter etter plan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amarbeider med Sven Prans slip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irkløverdat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ar , Laserbar, Blekkba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erieturner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nrad, Laserm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radturnering for inntil 80 (110)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eie trekningsrutin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ssering i neste runde på slipp og resultatl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Willy Brown’s lag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t enkelt og liketil lag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sett  Serie eller Mon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 eller uten automatisk 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ner kvo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er opp ta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ips om WB pro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ngå lange filnavn med å legge programmet i mappe C:\BAR eller D:\B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troller at programmet virker sammen med printeren. Det styrer selv printerutskriften fra DO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serbar og Lasermon til Laserskriver. Det hender at programmet må kjøres fra DOS for å unngå problemer med urtskriften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ær nøyaktig ved inntasting i programmene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kan arrangeres f.eks BoforsMitchell eller vanlig Mitchell ved å angi rett antall sittepar og la sitteparene være nummerert fra NS1 og oppo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skriver ut slipper i et eget formar på slipper i bane. NBF har gått over til perforerte slipper som skrives ut fra WB med Sven Prans program ”Slipper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get av Thorvald Aagård i Danmar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pakken er skrevet på dans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mene kan lastes ned gratis fra n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er skrevet i DOS, men er i senere tid omarbeidet for bruk i Window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d oppsett av turnering legges startposisjoner for alle runder in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te gjør det mulig å arrangere turneringer med andre enn de tradisjonelle flyttemønstr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elprogrammet er god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itchell og Howell er O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rdplansjene inneholder flytteanvisning for hver rund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skriver ut slipper på vanlig papir som så må kut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lager HTML mal og filer for utlegg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eg har for liten erfaring med programmet til å kunne gi en rettferdig beskrivels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anbefales for de som skal arrangere singel og spesielle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ndowsbasert parturnerings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ater punching fra flere mask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river ut til tekstfiler m.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ytter NBF sine standardslip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løpig kun serie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1-31T22:26:29Z</dcterms:modified>
  <cp:revision>5</cp:revision>
  <dc:subject/>
  <dc:title>Turneringsregnskap</dc:title>
</cp:coreProperties>
</file>