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467-4524-4CE9-8B14-810C990C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E8D-647C-4A63-AD61-7DF9958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C2D-D5D6-4A07-83D4-90D17488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86A-DBD4-481C-A5E2-8BC0029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B1B-5E97-4EF3-BCDB-734C81DF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83F2-C185-4F9D-9F86-77669034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87C5-5473-409A-B650-BA264F5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025-58E7-4F8C-A24E-06CCC48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4A2-6807-4F32-8D46-EBC1479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6D3-4471-46D0-BB0E-7CA4B5B4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74C5-739B-435F-A79D-73E43D4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48F-2706-4F59-97A0-1F5E4160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BCDB-43B8-4291-B137-7CF8238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A4B3-B838-42A8-A410-FBF12E0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DE4-77EA-4364-BABC-84981CF3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8D0-11B1-4B69-A5F6-C862BD06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F79D-E152-474A-B151-DF98423E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0BE-26F6-4F75-8AF8-DB2BB3E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6D2-D8BC-45E0-8634-9583EFE2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9A6-BA87-4333-A31A-5427FBE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564-E17F-47FA-BB36-FC4A1D40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9F2-D593-48D7-A676-FB57E0F6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E47-F1F4-40BD-9733-4B6AA75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3E0-67C9-4217-B004-8122CB9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5FF-602F-45CA-88C5-DCE5B8A724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855-7EE8-4A08-98CD-EF099E7B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86F-985A-4416-91E6-5E99D635A8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2D78-D450-4285-AC34-E75ECD0E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m aktuelle turneringsopps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DBDB-C76F-4DF7-8E38-3330ED5AEC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9DC686-6A3A-4E61-86BD-0F8B3EE437F0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m 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ingelturneringer er ofte barometerturneringer der alle spiller alle spill før spillerne flytter mellom b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ävlingsledaren har Howell og Mitchelloppsett for et stort  antall spiller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n sportslige verdien av slike turneringer er begre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 er sterkt varierende styrke på spillerne innen makkerpa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A6B-09E6-45CC-96D5-5C07C10C26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0D4EA-214B-420E-B060-3976056A5CB1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sprogram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urneringshjæl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nuelt oppsett på fritt grunnla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med Prans Ske.exe i en pulje med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i like puljer inntil 4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Henriksen (excelbas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i grupper for 48-120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enkle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kan gjør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coreslipp i vanlig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D6D-0E34-4204-850C-B3848F8F26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236BA-093E-4E72-B4F5-BDE57F6982B6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orventninger om 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K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oppsett 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uljevise oppsett for inntil 10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oppsett for inntil hundre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re runder på hvert bord (4-1, 2-3) (4-2, 1-3) (4-3, 1-2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Runde 4-5-6 trekkes etter runde 2. Runde 7,8,9 trekkes etter runde 5 (Runde 10,11,12 trekkes etter runde 8)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Velge antall møter frit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03C-7F5C-404C-808D-09497FCBEE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44FCB-CC4B-4846-B5E4-DC1166B325E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ktuelle oppsett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rieopps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i Tävlingsledaren i en gruppe eller flere grupper (Henriksen for grupper 48-120 spiller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rowns program SINSTA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itchelloppse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n rekke sitter rolig de tre andre beveger seg i utak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E5C-E4C5-427D-B4A1-F5FC6A15D5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FF5CD-DABB-4E90-B4C1-26849AC0C04A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4:42:54Z</dcterms:created>
  <dc:creator>Per Nordland</dc:creator>
  <dc:description/>
  <dc:language>en-US</dc:language>
  <cp:lastModifiedBy>Per Nordland</cp:lastModifiedBy>
  <dcterms:modified xsi:type="dcterms:W3CDTF">2002-01-20T22:21:16Z</dcterms:modified>
  <cp:revision>5</cp:revision>
  <dc:subject/>
  <dc:title>Singelturneringer</dc:title>
</cp:coreProperties>
</file>