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D0B-5C22-47FF-9B83-0645AD3B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A10-B01F-411D-A63B-9A0D7AD8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27D-43AA-4CAB-8D4A-7318C2F2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2B8-3E17-426D-B5AF-95C6F1E8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0762-C58B-42F1-B24B-B3158DD6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2A1B-ECC5-4B2F-909F-7F884C9C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08B5-63D1-4517-88DB-E71F7FC4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80DF-11A6-48AD-A78E-8946CADF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AEEB-F5A0-4FF2-BF42-617E2D2F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CA09-1B2B-41EF-AAE5-C0A86BA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7BE2-5CCB-4022-B45B-3D2E6E1E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8D0-E5E4-4070-9F3E-2EAE5D3F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B2ED-758D-45A8-8ED9-CD22D8CB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293D-0DDA-402C-83D1-A36F36BF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D6CA-E592-4A95-BA80-1BF7210C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127D-478F-48B4-A38F-F5C8F0F0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6698-C789-4F88-BCAD-D51322A5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7D5-39F6-405C-A7D1-85874726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8B9-3926-4CE4-B353-BE7B9158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57C-E327-4C5C-BBB6-3273C207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FB2-6DDA-4633-9479-01F85124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090-C687-4D9C-8E12-A1BF4C8F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082-4A77-4775-8F1B-4CAFC8F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0A1-C0FD-41A2-94E5-7F8562B2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AEA8-81EE-4C99-A30E-A1D9E2C916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1D8D-5E13-4FEF-BB2D-4AE62278F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E563-2036-42C6-AE5A-6133FE492CC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8002-7786-477B-8FF9-6700E244A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ar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uligheter med dataprogramm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0E08-9E7F-4E40-A52E-C7933E3BF83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05BF1F7-09BA-4BEA-8F54-3ADFC16BAE53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How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settes opp i Turneringshjelper og Henriksens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e spill må spilles i en sesjon (kan ta en kort pause) for å unngå fri flyt av urettmessig informasj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psett for 4-12 bord (14-46 spill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st brukt er 4 – 7 bord med mindre enn 30 spil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grammene kan bruke Blindtar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nskapet føres pr. sp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B08-9137-4235-BFCA-B1C5D5FAE8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1146A-B0AA-4F63-A63D-73552DDFD1DD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rie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ometerturnering finnes i alle programm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ringer på en dag eller helg  med 2-4 spill pr. r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tid med forhåndsdublerte ko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ubbturneringer med 8-12 spill pr ru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ublering etter at spillet er spilt første gang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nskapet føres pr. b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5EB-3240-4508-8BA0-95584C4AB2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8801B-458D-4629-9FDA-2A903894E35B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Monrad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beste møter de beste, kun ett mø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og BK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blerte sp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ør bruke minst 3 spill pr rund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øte 25-50 % etter reglementet (helst ned mot 25%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olig er 30 runder alltid no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art med 2-3 runder som er forhåndstrukk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s pr b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D10-7591-48E5-B60C-E55E721E6A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D333C-17D3-46A5-B18A-CD955294D061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Mitch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Kan settes opp i Turneringshjelper og Henriksens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tandard er er to rekker i hver sin ret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lle oppsett i Tävlingsledaren kan bruk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alanserte” turneringer med 4 eller flere grupper (rekker) som møter hverandre etter Howellprinsipper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egnskapet føres pr. sp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37A-7E98-4401-ACA7-CFF8B08E27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27CFD-8346-48A2-A0B4-790A82A51BC9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ndre ”parturneringer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Butlerscoring av lagkamp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ut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ammenligning av egen score mot Butler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utler = middelscore evt uten høyeste og laveste score(r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eregne IMP mot alle andre bord og bruke summ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le total IMP på antall sammenlign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C39-DB11-47EF-9296-9E63CF3737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5DF37-694E-4944-9007-A3F07E4AE433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20:11:03Z</dcterms:created>
  <dc:creator>Per Nordland</dc:creator>
  <dc:description/>
  <dc:language>en-US</dc:language>
  <cp:lastModifiedBy>Per Nordland</cp:lastModifiedBy>
  <dcterms:modified xsi:type="dcterms:W3CDTF">2001-09-25T18:21:19Z</dcterms:modified>
  <cp:revision>6</cp:revision>
  <dc:subject/>
  <dc:title>Parturneringer</dc:title>
</cp:coreProperties>
</file>