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341-E912-4E87-9BDD-AE9C0E01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6D1-AE14-411A-A458-3404269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5E9-150F-49E5-89C1-5BB76B58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D0E-BF3C-4CA4-BC39-0E093235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3CE-7411-4F78-86A6-EE12A73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CCE-DCFB-4D82-8365-071DFE8F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DB5-E6A9-42BF-8114-64720A7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BF6-F415-46AE-A7A8-28384A32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9E7-0859-47DD-9B61-6664F7A4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71A-FB02-406F-889B-7DC9167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B9A-4F59-4D61-9525-249D804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95F-0B4D-4086-8FFF-1CA5EF85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D90-2985-4C43-9160-54026AC394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D02-C0BE-4D36-9ECC-D981125A4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E41-0DB8-4610-B9DA-531884397D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98FA7-1723-4E37-B74C-2EFE2BEDC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Hovedregel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t skal alltid brukes systemkor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Par som mangler fullstendig utfylt systemkort tildeles prosedyrestraff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Tillatte systemkor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ltakerne kan fritt benytte NBF sitt standard systemkort , WBF sine systemkort   eller andre fullstendige kort med minst samme opplysninger på forsiden som NBF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Utfylling av systemkort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være fullstendig utfylt, det skal ha (eller være merket med) rett farge og eventuelle HUK skal være beskrevet på eget brunt vedlegg sammen med et forslag til forsvar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En meldings mulige fordeling skal beskrives ved å angi  grensene for fargelengder, og styrkegrensene skal angis ved Hp-intervall</a:t>
            </a: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ulige unntaksvise avvik på ett kort eller 2Hp eller mer skal alltid markeres på korte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B0E-FD8A-4C3E-BAA2-B37B15B07B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9310B-2AB7-4720-9A00-28CDC2A267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sykiske meldinger / Referanselitteratu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nkelte makkerpar bruker psykiske meldinger eller andre avvik fra systemdeklarasjonen så ofte at de reelt er del av makkeravtalen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like makkeravtaler skal føres på systemkortet, og de er underlagt reglene dersom de er HUM eller HUK. 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TL bør tilkalles når det har forekommet psykiske meldinger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systemkortet er basert på en mer omfattende systemdeklarasjon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bok eller lignende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bør referanse til denne skrives på kortet, slik at spørsmål om feil melding/feil forklaring lettere kan utredes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D55-BA96-4FE5-9A04-65C0B03ADC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EF389-769F-40ED-BFF4-812DAA6F9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siden av systemkortet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Alle plikter å  kjenne opplysningene på forsiden av motpartens systemkort. Det skal gi informasjon om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unnsyste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andåpningens styrkeintervall, mulige fordelinger samt svarene på 2 trinnet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Hvor langt 2 over 1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Åpning i minor og senere melding av minor som kan gjøres på trekortsfarg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rut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Doblingers betyd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Spillkonvensjoner og signal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31D-F660-4692-9946-390CF44E4A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68250-4267-4B0C-93CD-1D8532DEEF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er om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håndsutfylte 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BF vil forhåndsutfylle et systemkort for et svært enkelt naturlig system.. Dette systemet skal brukes av spillere som ikke har fullstendig utfylt kort, inntil et eget kort er utfyl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ruk av systemkort under spille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pillerne har anledning til å studere motpartens systemkort når de er i tur for å melde eller spille, men ikke sitt eg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ersom arrangøren med utdelte kort har fastsatt turneringens system(er), så har spillere lov til å studere også sitt eget systemkort. Det samme gjelder spillere som av turneringsleder er pålagt å spille med forhåndsutfylt kor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Kurs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ybegynnere med kurssystemkort som er påført navn og utstedelsesdato og er signert av kursets ansvarlige, kan studere sitt eget systemkort under meldingsforløpet i alle turneringer i inntil 1 år fra datoen på kort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2E6-64BB-43C5-A4FB-9609A1722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CD60-499C-43EB-9B4C-163C727DB7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ølgen av avvik fra systemkortets beskrivelse av meldinge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vvik fra systemkortets grenser for styrke og fordeling for en melding, kan være en skjult makkeravtale og er derfor et mulig brudd på reglen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"Strekking av grensene" etter en bridgemessig vurdering er ofte egentlig en endring av systemet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avvik kan medføre justert score, prosedyrestraff og pålegg om å rette systemkort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idgemessige vurderinger bør godtas som grun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avviket ikke er på mer enn 1 poeng i parets poengsystem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 avviket ikke er på mer enn  et kort i en fargelengd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inste fargelengde i åpning eller definerte innhopp skal være rikti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”avvik” må ikke brukes til å overskride viktige grenser som f.eks ”en konge eller mer mindre enn en gjennomsnittshånd”, ”kort farge – lang farge”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t utilsiktet avvik fra systemkortets beskrivelser, f.eks p.g.a feiltelling eller lignende, skal ikke straff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3D1-7C33-4128-9DBD-3983AE18B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35C7-6D7B-4CBF-A7D8-3D8FDEA71B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ksempler på reaksjon fra T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forekommet et avvik fra poenggrenser, avviket bringer ikke systemet ut av den aktuelle systemkategorien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rettes. Spillet kan bli justert dersom motparten er skadelidende. Prosedyrestraff vurder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er registrert et avvik som betyr at systemet etter avviket skal plasseres i en annen kategori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Makkerparet må enten rette systemkategorien eller endre bruken av den aktuelle meldingen. Spillet kan bli justert dersom motparten er skadelidende. Prosedyrestraff tildel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En melding som er deklarert som 11-19 , blir avgitt på en hånd med 9 Hp. Det blir forklart at meldingen unntaksvis kan vise ned till 8 Hp og opp til 21 Hp avhengig av fordeling og kvalitet på de andre korten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TL pålegger at poeng rettet til 11(8) - 19(21), tildeler prosedyrestraff for ufullstendig systemkort og justerer spillet hvis motparten er skadelidende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8F1-0A37-4935-A748-C1BD0A321D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7BE5E-B1C0-4B25-91B3-5457C98EF6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0:17:38Z</dcterms:created>
  <dc:creator>Per Nordland</dc:creator>
  <dc:description/>
  <dc:language>en-US</dc:language>
  <cp:lastModifiedBy>Per Nordland</cp:lastModifiedBy>
  <dcterms:modified xsi:type="dcterms:W3CDTF">2002-03-30T18:07:18Z</dcterms:modified>
  <cp:revision>2</cp:revision>
  <dc:subject/>
  <dc:title>Regler for bruk av systemkort</dc:title>
</cp:coreProperties>
</file>