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430-B412-4649-89B9-AF9E0A4B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A38-89B1-4B73-A787-C5AF5BDD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544-1C31-4625-96F9-E1B28134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88E-3057-444E-8C09-E918AA5E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730-6C7C-409A-AA5A-771F1276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010-873C-4F16-A205-8E87CEB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A5C-481E-4532-B2B6-AE354A8B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FE8-49AA-434B-BEF5-B5FC7256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C61-6AA9-46B0-B0DC-C4DF7852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16E-206D-43C0-8FD8-50E7D6E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FBB-0ABB-4B91-B3A7-6C11132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0DA-E2BD-425C-BAA4-428644B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2BF4-EFE2-4FBB-B2BE-E55F4454C9C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8291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29:55Z</dcterms:created>
  <dc:creator>Laval Dubreuil</dc:creator>
  <dc:description/>
  <dc:language>en-US</dc:language>
  <cp:lastModifiedBy>Per Nordland</cp:lastModifiedBy>
  <dcterms:modified xsi:type="dcterms:W3CDTF">2002-07-14T21:50:26Z</dcterms:modified>
  <cp:revision>3</cp:revision>
  <dc:subject/>
  <dc:title>Présentation PowerPoint</dc:title>
</cp:coreProperties>
</file>