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00F-4B2A-4A3A-87E2-566DF197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9AE-745D-4347-8465-2449D9DC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A18-1994-47B7-9080-ACFA3EA3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F92-BFCF-4A61-A89D-E6C18B84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ED35-082F-4336-9E20-8FE9E0BF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B29F-EE96-4B30-A858-47B557EC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08F7-DAE6-467E-934B-3D929DCC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673F-F4C3-4603-83F7-6D21935D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9B75-21E2-4F19-BAD2-4DF99C82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10B6-4CE3-49FA-A724-69054CD2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0AE2-1985-47C3-BC5D-8A850A9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7F7-0E3A-4090-ACB0-3A3C6BEF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0934-5661-47E5-AD52-950990A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DBB-A46F-47E0-B5CF-8500D263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A98-88AA-4915-881B-940D8F93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42B6-BA6B-4676-AC25-86883390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BFD6-5D4F-4FFB-B0A1-D85703CB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F3A-444C-4C8A-ACB3-405F1855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0BB-FE5B-4CD9-B028-80882F5D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FC8-0F9A-4824-A844-72EEB7F4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9C9-3842-416F-9A74-13A0F75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CC8-1D46-4BFF-AFDA-25B844FC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90E-3C60-4795-9C8E-FF7E242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D1A-473B-4E10-9D80-342B49B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499-118B-474B-9FCF-F277CF895F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A45-4792-470A-B03B-C00546FE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AEE-6AC8-4785-9A2C-3E1957B231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5AF3-CC21-4018-A56D-24D23AA55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ne er man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F7F1-44B8-4087-ACDC-FED17638AC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AE0D5ED-1915-4564-943E-749AC9F8828B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oppsett for barometer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Høyest /lavest metoden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alanse oppnås ved at man ved noen bord setter paret med lavest parnummer 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te er beregnet i tabeller som finnes i den store boken om bevegelser ”Tävlingsledaren” av Hans Olof Hallén med medarbeider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som følger med dataprogrammer skal settes opp etter denne tabellene i denne boken  (Tabellene i BAR er like gode, men de kan være litt endre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6DB-CB33-4692-BF49-C5037F471C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A7BEB-F6CF-4AA5-94CE-27878E5F67AD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kstra bord ”Blindtarm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rukes i Howellturneringer og Serie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 inn ett ekstra bord, og to nye par som sitter rolig. Parene som beveger seg beholder retningen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3809880"/>
          <a:ext cx="6858000" cy="23209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90360"/>
                <a:gridCol w="990720"/>
                <a:gridCol w="990720"/>
                <a:gridCol w="990360"/>
                <a:gridCol w="990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 + Blindt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72F-F81C-4DB7-876C-610A862F8E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6DCEF-4F36-4B01-9B5E-BBA1CFEB982F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n av ”blindtarm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ord kan settes inn ved bord der det ikke er et sittepar. Greit å ty til i barometerturneringer med ferdige plansjer og slipper.             Endring av plansjer og slipper angår kun dette bordet + ekstraborde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alansen mellom sitteparene og de som beveger seg er go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 er nødvendig å endre retning i noen runder for å få noe balanse mellom sitteparene. Vi ser at en turnering med mange blindtarmer kan bli en turnering med 3 pulj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beveger s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Ø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lindtarmene reduserer antall runder i turnering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9 bord uten blindtarmer &gt;&gt;&gt; 17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5 bord pluss 4 blindtarmer &gt;&gt;&gt; 9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Par med høyere startnummer enn NS bord 1 er si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2D4-4A7B-4435-860C-C9791DE031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EAA9D-71E4-42A9-AC5B-7C29BB4BAFCC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ne spilles i rekkefølge på alle bord og alle møter al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rter med laveste spillnummer på bor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runder som kan spilles er lik antall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spill totalt blir da: Spill i runden x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rne og spillene plasseres slik at dette er mulig.        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se tabeller hos Hallé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et finnes tabeller med høyest /lavest prinsipp og andre tabeller der spillerne går ”mer enn ett b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7CC-8E70-481B-9945-DC5F0AF3FD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C374F-401E-4C36-B65A-B1E0F19A5420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Howell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o grupper kan spille de samme spill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bbel Ho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parallelle rekker spiller spillene samtidig og bord med samme nummer bytter spill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nvevd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rekker spiller med en rundes forskyvning slik at bare noen få bord bytter spill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dusert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e et lavere bordantall med flere blindtarmbord i stedet for full turnering. Blindtarmbord og opprinnelig bord deler spill Turneringen kan også være avbrut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1C8-3E51-4A06-AB9B-5274E4B45F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54D9B-5683-433C-A6E4-E5573DD1AD42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Mitchel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en deles i puljer slik at antallet mulige runder i en omgang ikke er mye større enn antallet spilte rund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es ut i to resultatlister en for NS og en for ØV. Eventuelle puljer summeres sammen dersom de har spilt de samme spill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ed et likt antall bord så flyttes det to bord etter runde 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yttebord slik Hallén beskriver det mellom bord N/2 og og bord (N/2+1) brukes lite ute i verde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F97-806C-470B-AA80-87EA9D5753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ECCF3-A4FC-4602-BCAA-3A4EFFFC244E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Mitchell 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varierende retn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ingdansmitchell for turnering mellom klub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oforsmitchell for å balansere opp til en resultatliste på en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mange omga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Flere puljer (samme deltakere i pulj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 omgangene flyttes rekkene etter et barometeroppsett noe som gir god balanse i sluttresultat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B48-EE75-4825-8E71-0C12F699A7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B45B4-4497-484F-BD50-3A3F84B85664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ler flere par på la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pillere spiller sammen i hele turn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erne skifter makker etter hver r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rie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,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 ulik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rekker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nere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F60-9FA1-4054-B438-45EE59956447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7E2E0-256B-4004-BC50-F4B1685FD291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serier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ystemet i divi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tsse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ometerturneringer for 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 for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pne 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er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rieturnering i klub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bbturnering over flere kvelder med et fast antall 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vanligste er 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120-FC24-4A1A-BF41-435AACF3F7A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6511B-A0F2-4DF2-9500-E0DC49B600B5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møter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ne flyttes et bord ned og spilles i rekkefølge på bor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resultat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 (Swis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e som er nært hverandre på resultatlisten møtes. Alle spiller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form der spillene leveres et bord ned og spilles i rekkefølge ved bordene (fra 1 &gt;&gt;N)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ne deles i to  gr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En gruppe f.eks NS sitter rol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Den andre gruppen går til det neste høyere bordet (fra N &gt;&gt;1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67F-6009-440F-9B72-C41A5E5209DC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698BB-9577-42CD-9942-79E3B1A35138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nkurrans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å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st mulig poeng til egen side når resultatene sammenlig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beregnes s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ekkverdi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tgangsbon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lill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stor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ekkverdiene gies til det syvende stikket og oppov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for kløver og r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or hjerter og spar og senere sti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for første tre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 4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gang når meldt trekkverdi inklusive D eller RD er 100 eller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A28-DDF2-42C2-8595-502F71D9AE39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39409-7F62-4A4E-A698-5A6BD532A288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oen turneringsbegrep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sgruppe i par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par i gruppen som sitter i samme retning på et 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tchpoi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 poeng for alle scorer i samme retning som er dårlig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poeng for alle lik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 poeng for alle bedr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nternasjonale matchpoi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Forskjellen mellom to scorer avleses i en ta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/Datum et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gjennomsnittsscore (enten med alle eller uten topp og bunn) som score sammenlignes 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across the fiel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ammenligning med alle bord evt. delt på antall sammenlign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7BD-4F19-4145-BED8-8EB7D9193CA9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10966-8D15-4B05-BAF4-78CAB581198F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mbinasjon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ps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eri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itchel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onra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ings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MP  &gt;&gt;&gt; V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atchpoint mellom 2 bord brukes i ”Board a match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lle oppsettsmetoder kan kombineres med matchpoint eller med IMP (som butler eller across the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ndardoppsettene er serie (og matchpoint), men mye kan forsø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54A-2553-4014-9032-A8AD5F6AD70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DE59A-0C07-41EC-B4A3-E38A4F390C49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psett av 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ltakeren med det høyeste nummeret sitter alltid på bord 1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 andre deltakerne flytter etter deltakeren med et nummer lavere (deltakeren med nest høyest nummer går etter nr 1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øyest/lavest metod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 lagturnering og pa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1 (N)    – 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2 (N-1) – 2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3 (N-2) – 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erfekt bala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e i samme scoringsgruppe som et hvilket som helst annet par i halvparten av rund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alvparten hjemmekamper i lagturn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379-60E3-4FEA-A95E-B0773783AFC3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77B14-36E3-466C-88D6-90F20E763A9C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 lagserie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øyest / lavest metod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et som sitter på bord 1 har hjemmekamp i runde 1 til N/2 og bortekamp i resten av rund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dene spilles i rekkefølgen: 1, (n/2+1), 2, (n/2+2), 3, (n/2+3), 4, (n/2+4) …os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oppsettet gir at alle veksler mellom hjemmekamp og bortek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slik runde er en enkel serie og det er det vanlige i Bridgeturneri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18B-3763-47A0-8F75-E4205F243B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693A6-F6F9-4C18-8897-84DB30CE59A9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21:50:37Z</dcterms:created>
  <dc:creator>Per Nordland</dc:creator>
  <dc:description/>
  <dc:language>en-US</dc:language>
  <cp:lastModifiedBy>Per Nordland</cp:lastModifiedBy>
  <dcterms:modified xsi:type="dcterms:W3CDTF">2002-06-02T07:46:51Z</dcterms:modified>
  <cp:revision>14</cp:revision>
  <dc:subject/>
  <dc:title>Turneringsformer</dc:title>
</cp:coreProperties>
</file>