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88B-71F1-4F5A-A6AB-894109F7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D91-6BEF-41C3-9EB3-5221D02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C5E-49B2-487E-97BC-69F14BA8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875-5963-4B15-B92E-C12A155B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FC8-A609-4500-B4AE-8A6A4DA7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83E-3543-42DF-9D6F-90B3DD9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3EB-845C-415B-A9CE-B8073B0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3F1-51A7-41FF-99BD-1BC36654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D52-008C-47F8-A4BC-1BC47EE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CA2-5282-4D14-8A30-FC5F552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20C-FBA3-4FDC-8542-44D1268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6D7-104B-40F0-B251-D13F123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CFE-5861-4595-970C-6BA835FDE2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E6D-F218-4E1F-8960-A7758BB4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tillatte meldesystem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F6E-08AB-4CB5-9B1B-1A5B6135DD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5FC89-6E6A-4D82-BEDD-6123F28E86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jennomsnitts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gjennomsnittshånd er en hånd som har en honnør av hver rang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va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vak hånd mangler en konge eller mer på å være like sterk som en gjennomsnittshå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r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terk hånd er minst en konge bedre enn en gjennomsnittshån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lang når den er på minst tre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Kort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kort når den er på høyst to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04F-E782-45E2-ABE6-54CA706F68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843C8-52F2-4B16-8558-008043F955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nvensjonell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konvensjonell når den i følge makkeravtale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kan formidle en annen betydning en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En vilje til å spille i angitt benevnelse (eller den sist angitte benevnelse.)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Honnørstyrke i fargen.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kte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ekte når den ikke er konvensjonell 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(etter definisjonen ovenfor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Lang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lang når den er på minst 17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rt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kort når den er på høyst 16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Psykisk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psykisk når den er overlagt og grovt villedende i forhold til systemdeklarasjone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Semibalansert hånd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 hånd er semibalansert når den inneholder to dobbeltoner eller en singelton uten dobbelt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159-5FBD-4C49-A1FE-208FD7A2B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D90D-8F74-492E-96CB-ADEE1BF9A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UM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Høyst uvanlig metode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990000"/>
                </a:solidFill>
                <a:latin typeface="Times New Roman"/>
              </a:rPr>
              <a:t>Et system tilhører kategorien HUM når det oppfyller minst ett av fem kriterier: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Pass i åpning viser eller kan inneholde en sterk hån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Et åpningsbud på entrinne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ære svakere enn pass i samme posisjon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ller inneholde en svak hånd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alternativt vise kort eller lang farg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nten lengde i en farge eller i en eller flere andre farger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DC5-B19C-4EE3-AA24-381D4E01EF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0D6B7-BE11-4157-8260-6DE9582249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UK  (Høyst uvanlig konvensjon )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UK er konvensjon knytte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Åpningsbud fra og med 2 kløver til og med 3 spar, som kan vise eller inneholde hånd under gjennomsnitt og da ikke viser minst 4 kort i en bestemt far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) Meldingen viser alltid minst 4 kort i en kjent farge når det ikke er sterkt. Dersom meldingen ikke viser en kjent 4 kortsfarge, må den vise en hånd med en konge eller mer over gjennomsnit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) Åpning 2 i minor som viser minst 5 kort i en ukjent majorfarge, er ikke HUK</a:t>
            </a: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28A-D362-4BC2-88C5-DCC068A1F5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02CC0-FEE5-4C82-9AE1-865B64855A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66"/>
                </a:solidFill>
                <a:latin typeface="Times New Roman"/>
              </a:rPr>
              <a:t>HUK  (Høyst uvanlig konvensjon )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Innmelding som etter åpning på entrinnet i ekte farge ikke viser minst 4 kort i en kjent farge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990000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kte grandmelding med eller uten hold </a:t>
            </a: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Melding på hånd som kan være svak og da viser to farger der den ene kan være på mindre enn 4 kor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Psykiske meldinger som er beskyttet eller krevd av system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Ingen forsvar mot sterke, konvensjonelle åpningsbud, HUK eller HUM er  HUK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9D1-85BA-47F6-A38F-1239C9E8E2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58853-D124-4960-A376-7C6FF5E4E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ruppering av meldesystem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Naturlige systemer 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røn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Naturlig når det på entrinnet bruker ekte åpningsmeldinger som viser minst tre kort i minor og fire i major, har ekte svar på en og totrinnet og har </a:t>
            </a:r>
            <a:br>
              <a:rPr sz="1800"/>
            </a:b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1grandåpning som viser en balansert eller semibalansert hån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onvensjoner som Toronto og Stenberg er tillatt. 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Minorsystemer    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låt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  Minorsystem når det baserer seg på 1 kløver eller 1 ruter eller begge som konvensjonelle åpningsmeldinger og åpningen 1 i major og åpningen 1 Grand , er som for naturlige syste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unstige systemer 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Rød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Kunstig når det ikke faller i kategoriene Naturlig eller Minor og ikke bruker meldinger som er definert som HUM eller HUK. 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Kategorien omfatter bl.a Vienna , relésystemer, systemer med tillatte flertydige åpningsmeldinger og systemer med poengsvar ).</a:t>
            </a: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HUM (Høyst Uvanlige Metoder)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ul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t system er HUM når det i oppsettet har prinsipper som er beskrevet under HUM eller HUK unntatt konvensjoner som er beskrevet i tillatte brune vedleg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98E-0D96-4977-81E1-637E06F802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41E0E-F2D4-4AB3-B65B-BF8D1C0B9F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enerelle regl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Arrangøren av en turnering bestemmer hvilke kategorier som er tillat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HUM kan bare tillates i lange lagkamp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Lag med spillende par som bruker HUM systemer, er alltid bortelag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M systemer tillates, skal systembeskrivelse sendes inn til arrangøren - fortrinnsvis på fil - for distribusjon til andre deltakere i turneringe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K tillates, skal et forslag til forsvar beskrives sammen med konvensjonen i det brune vedlegg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det </a:t>
            </a:r>
            <a:r>
              <a:rPr b="1" i="1" lang="nb-NO" sz="2000" spc="-1" strike="noStrike">
                <a:solidFill>
                  <a:srgbClr val="990000"/>
                </a:solidFill>
                <a:latin typeface="Times New Roman"/>
              </a:rPr>
              <a:t>ikke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i innbydelsen til turneringen er gjort særskilt vedtak, gjelder følgende: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ingelturneringer og andre "spesialturneringer"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Arrangøren kan fastsette et system som er felles for alle spillern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C43-400D-4635-95C1-DA732171A9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C220C-1B77-4F0D-8154-C645EB8852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"Åpne" turnering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generell innbydelse med klubbpoeng eller kretspoeng , SM damer 2. div, SM 4. og 5.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HUM og HUK er forbud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bundspoeng-turneringer etc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forbundspoeng, kretsmesterskap med kvalifisering til NM, NM finaler under Bridgefestivalen,  SM 3. divisjon og cup - rundene i NM for klubblag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nntil 2 HUK er tillatt.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oppturneringen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finalen NM for klubblag, finalerundene NM for Lag,  SM 1 divisjon, SM 2 divisjon og SM damer 1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lle kategorier er tillat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A35-E0FE-43C9-91B3-8311C7674A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197CD-7FE5-4D78-A289-926585F403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2:10:32Z</dcterms:created>
  <dc:creator>Per Nordland</dc:creator>
  <dc:description/>
  <dc:language>en-US</dc:language>
  <cp:lastModifiedBy>Per Nordland</cp:lastModifiedBy>
  <dcterms:modified xsi:type="dcterms:W3CDTF">2002-06-01T20:22:18Z</dcterms:modified>
  <cp:revision>9</cp:revision>
  <dc:subject/>
  <dc:title>Regler for tillatte meldesystemer</dc:title>
</cp:coreProperties>
</file>